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FE4C-67F2-43F1-A235-B515F241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BD475-8C2A-4BEC-A8F3-2A3D7FF2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31B2-5B27-44EC-9176-2A6BCC5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49FB5-1523-4F69-A95D-E4F91B2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23375-1A09-465C-A722-B10CC80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D21A-6977-4E9D-B917-EB4362F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47B0C-2F86-4BCC-8911-17FD1129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368B-0049-4380-85F8-61F7EAAC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AAD5E-40FD-4D31-BE39-101DC1B2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E895A-5E04-4470-85C5-D0940A51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F4160-6404-4BFA-AAAF-61FAC54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EC2F-8251-4192-8A10-41D0DBB6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18B0A-AECC-47AE-92FC-45DF4CA7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72AEF-5329-48B8-9793-84BDE126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1125A-383D-4874-A725-9E59432F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E928-AD5A-4F12-B607-3D7F977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1F5F8-429E-404A-A69F-5F4A9B4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78BD-F1BD-49AB-B679-C29E5A8D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AD8DA-989B-42ED-812D-D678BA56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AEB42-4BA0-429E-A5B3-B0F433B9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E5E20-1243-4CC0-9061-655A21A0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E6E4F-28F8-45CC-81EB-E829F49A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1C3A1-5561-48C5-B08A-7AB39E8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20C22-38ED-47BF-BEF9-31974D51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BEE0E-81F7-4A65-A7D1-1DA3B6A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14D99-675E-40B6-B6E1-29062F7D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15326-D9A6-492E-A8F9-CC04571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307F-C568-4054-80FC-BD044CF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3CAA0-8371-4644-90C4-D678110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23AD4-AC2B-42E8-A647-54F31BB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DC9-0BD7-4693-AA2D-CC6BFA49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59B18-5628-46ED-8CC0-E845FFD7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E37FF-A7BB-494A-A831-DDB62284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A67BC-C626-4380-AF94-498A3140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EE138-CD9D-4F8F-8BE7-1042F6B1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408C2-BEA7-44DB-BA08-4F4A13E5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46497-8AD7-47DF-A665-046EA2D7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B21AC-0DBA-447F-A6E1-271DEBD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4D2E3-466B-47BC-8DE2-55640455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25770-858A-4FD4-8179-466AF7F6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2FF47-2909-4598-A6D4-B056BFD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634-28EA-496B-B4BF-6B9116FB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87DB6-5FB4-45F6-87E6-DA74AEF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579A-F493-4039-84CE-838E474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D5731-7FF4-4BCF-B354-1091C45A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80244-FC36-4E43-A8D7-B256A961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AB1E3-D824-4E41-8CD7-6B6E7EB7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278-241B-4AA5-99D6-DD615E59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515-51E9-4539-A9F3-FF7723B9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B78-62AA-4B35-B7B0-1566D9D2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BC2-CD5D-4A9F-A4C1-D722B8C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7F3-FF5D-409C-B882-E475814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053-D30B-47F7-B4A7-C3AD4CA8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847-0F14-4BBD-96D3-09491D0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01C-AD3E-48C3-AFD0-BF6696F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2DB-8246-4F6B-A370-1AA76085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5E4-EBE5-4756-9AEE-284C702D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A3A7-606D-4D06-B318-B43133D3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CA13-9FE4-41A0-AE66-92700110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DC8-2336-4CA0-99A0-1F5B2AEE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0B86-6381-4038-8072-844CC698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E3DF-FD55-4CEA-A285-B774D78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AE4D-2AF4-4D74-A5D3-DEE863F5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8D85-D954-43A5-A231-7C6B345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AC5-0446-4CD5-9733-AA4A759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F4B7-41F0-47B9-913D-CBE2E82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0E0F-E193-426D-A59C-4EFBD112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816D-2F1F-4A32-A8E0-2F1769E3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1FF6-5425-41A1-8799-C28BB89D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8554-DB14-4295-8B66-96CA2C7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6654-F93F-4FC5-99DB-CB225E8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6AE8-87A2-41F1-A5A2-09A06FC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0D92-ED6B-400F-90FF-E44FE90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1D89-D6FC-454C-873D-7CF568F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CDF8-8774-43DE-B6FE-FDB4344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90EB-3C0C-4493-98C2-602522C8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9A58-B47D-4148-971A-25E91E8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5A38-3501-4114-88FA-2FEAD00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91BD-E3C5-4F12-B4C4-4BCB1053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4EFF-F72F-4F70-96E5-9F8DF155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0E2A-5CC1-4AE3-A941-9E81B4B3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9C59-DBEA-4639-B741-7DE37439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AD3D-C5A7-4860-A782-5EE2FA8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9DBBE-1EC2-4D6E-8520-853F0153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7023-40BE-4CA3-9D78-23AD91FB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0537-51E9-45B1-92C5-72E62F77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1C05-2CD5-4427-ACAF-2A0C8CE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65FB-7BBB-4325-B02A-EC57C3D3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82BD-A829-4AB4-BAD9-DEC8ED92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D4D3-718C-48E7-8769-EA87541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8160-EF3A-4D95-88DE-CD625887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CBDE-2426-4E4B-BA81-A72C05FE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2D37-70EF-42A9-8142-7AFAD23F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97B5-A424-439B-A3CA-9799E798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6A32-4C15-4036-B08D-D7A84A7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8C6B-38C6-4110-BD31-9F0732E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A85B-BD54-46CC-83EB-1270C94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82DC-F1E7-45C6-B888-A79E46A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684C-3B5E-44A1-AFA4-326B4F4E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2780-79AF-43C4-A05A-CFE7B44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4E623-5882-4A00-A322-41BBC38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9C1AC-1BBD-471A-82AC-CDE0146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AD0D-1C3B-4384-8993-130EF8A2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92C8-9414-44E9-84AF-0FD7D89D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BF0F-780F-49A8-B954-1A26A3E6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4DE32-EF23-4EA9-8D66-4FB588C0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43F8-48A2-4655-B33B-F8C44FA5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7BE5-5E93-4D5C-AA7A-CA9FBA8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C4DC-473C-49B7-A4B3-FB256B16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22EA-CD3C-4AC5-8E2F-FD9E973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1B4E-D119-4A74-99F1-80551ECD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2F03B-2B33-4768-9ABA-ACD23BE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B64D1-17C9-4915-861C-767CB60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7942-64B4-46A3-829F-D336D5B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FAEB-4A8E-4AD9-B146-45F103AB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B4A2-8F35-4769-A6E2-CBDD56FC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1602-C844-4D57-98DF-E13909F2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8DCFC-0BCA-4C3B-89EE-D1C18CBA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06382-1B39-4670-85A5-3553EC50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7A29B-28C0-4EC6-B9BF-E1559F7D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8565F-561A-4328-AD75-AB6CA4B2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D961-0F3A-4008-A5F6-38E451E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D4D6-6C13-4F2F-B96F-12265FD8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F3F8-4459-4DFB-8247-44FA77F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0FEF-FB55-4E14-BE7C-194746C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3FB63-A8CA-4D2F-9F5F-2FB46A61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132D4-9700-415C-9B12-703AB959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73DC5-BB4D-410C-9857-01AFFC0A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DF903-653E-477B-AFFE-ECC45E1B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87D2-BAC2-4491-B08F-CDF655B8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F6E69-7726-48DE-89A0-BDF8CEC6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3A2F-FAF6-47BC-90E3-ACC59554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dt" idx="25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6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7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4050-0926-4EA4-B138-1FBF2B6F34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dt" idx="28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9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30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35A-03E7-42F5-95C9-FA89ACB69C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dt" idx="3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3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9B3-BEB4-4C0E-B2A2-085C618981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1527120" y="3090960"/>
            <a:ext cx="7566120" cy="188640"/>
            <a:chOff x="1527120" y="3090960"/>
            <a:chExt cx="7566120" cy="188640"/>
          </a:xfrm>
        </p:grpSpPr>
        <p:sp>
          <p:nvSpPr>
            <p:cNvPr id="41" name="Rectangle 3"/>
            <p:cNvSpPr/>
            <p:nvPr/>
          </p:nvSpPr>
          <p:spPr>
            <a:xfrm>
              <a:off x="1531800" y="3101760"/>
              <a:ext cx="7561440" cy="16776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"/>
            <p:cNvSpPr/>
            <p:nvPr/>
          </p:nvSpPr>
          <p:spPr>
            <a:xfrm>
              <a:off x="1536480" y="327636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1536480" y="323820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1536480" y="319068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1536480" y="3136680"/>
              <a:ext cx="7556760" cy="0"/>
            </a:xfrm>
            <a:prstGeom prst="line">
              <a:avLst/>
            </a:prstGeom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527120" y="3090960"/>
              <a:ext cx="7564320" cy="188640"/>
            </a:xfrm>
            <a:custGeom>
              <a:avLst/>
              <a:gdLst/>
              <a:ahLst/>
              <a:rect l="l" t="t" r="r" b="b"/>
              <a:pathLst>
                <a:path w="4765" h="119">
                  <a:moveTo>
                    <a:pt x="0" y="118"/>
                  </a:moveTo>
                  <a:lnTo>
                    <a:pt x="0" y="0"/>
                  </a:lnTo>
                  <a:lnTo>
                    <a:pt x="4764" y="0"/>
                  </a:lnTo>
                </a:path>
              </a:pathLst>
            </a:custGeom>
            <a:noFill/>
            <a:ln cap="rnd" w="1260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9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0"/>
          <p:cNvGrpSpPr/>
          <p:nvPr/>
        </p:nvGrpSpPr>
        <p:grpSpPr>
          <a:xfrm>
            <a:off x="0" y="65160"/>
            <a:ext cx="1473120" cy="6405480"/>
            <a:chOff x="0" y="65160"/>
            <a:chExt cx="1473120" cy="6405480"/>
          </a:xfrm>
        </p:grpSpPr>
        <p:pic>
          <p:nvPicPr>
            <p:cNvPr id="49" name="Picture 11" descr=""/>
            <p:cNvPicPr/>
            <p:nvPr/>
          </p:nvPicPr>
          <p:blipFill>
            <a:blip r:embed="rId3"/>
            <a:stretch/>
          </p:blipFill>
          <p:spPr>
            <a:xfrm>
              <a:off x="0" y="160956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Freeform 12"/>
            <p:cNvSpPr/>
            <p:nvPr/>
          </p:nvSpPr>
          <p:spPr>
            <a:xfrm>
              <a:off x="60480" y="65160"/>
              <a:ext cx="141264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1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2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3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B051-376B-4879-AD23-BB99D83F4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CDBF-6530-4E64-99D8-6B60154EE8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dt" idx="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C9A-6E00-4D10-9EF1-46A35353E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dt" idx="10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1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2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8BD-45CF-4F1B-9E7F-6F923967F8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dt" idx="13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ftr" idx="14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15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B891-A6DE-4983-82ED-87647F9B5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DAC4-E58C-4567-99F5-39A44E3BB5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5B64-9FBE-4867-95EE-9B6155596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Blu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PP Logo.png"/>
          <p:cNvPicPr/>
          <p:nvPr/>
        </p:nvPicPr>
        <p:blipFill>
          <a:blip r:embed="rId4"/>
          <a:stretch/>
        </p:blipFill>
        <p:spPr>
          <a:xfrm>
            <a:off x="152280" y="5638680"/>
            <a:ext cx="1524240" cy="8478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2"/>
          <p:cNvSpPr/>
          <p:nvPr/>
        </p:nvSpPr>
        <p:spPr>
          <a:xfrm>
            <a:off x="20574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" descr="PP-Podcast-Art-3a.jpg"/>
          <p:cNvPicPr/>
          <p:nvPr/>
        </p:nvPicPr>
        <p:blipFill>
          <a:blip r:embed="rId5"/>
          <a:stretch/>
        </p:blipFill>
        <p:spPr>
          <a:xfrm>
            <a:off x="7848720" y="54864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0F32-6271-4F74-9C37-CA6C2FCF6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Right to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National Campaig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bring back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Sponso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  <a:ea typeface="Marker Felt"/>
              </a:rPr>
              <a:t>Peaceful Playground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iStockplaygroundboyXSmall.jpg"/>
          <p:cNvPicPr/>
          <p:nvPr/>
        </p:nvPicPr>
        <p:blipFill>
          <a:blip r:embed="rId1"/>
          <a:stretch/>
        </p:blipFill>
        <p:spPr>
          <a:xfrm>
            <a:off x="4876920" y="1600200"/>
            <a:ext cx="24382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40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676160" y="23623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search Finding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s overall fitness scores improved,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chievement scores also impro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Grissom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45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Play &amp; Well Being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If you look at what produ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learning and memory and well-being, play is as fundamental as any other aspect of life, including sleep and dreams.</a:t>
            </a:r>
            <a:r>
              <a:rPr b="0" lang="ja-JP" sz="3200" spc="-1" strike="noStrike">
                <a:solidFill>
                  <a:srgbClr val="000000"/>
                </a:solidFill>
                <a:latin typeface="Marker Felt"/>
              </a:rPr>
              <a:t>’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Br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Supporting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POSITION STATEMENTS SUPPORTING RE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P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for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Education and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of Early Child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pecialists in State Departmen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1447920" cy="762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838080" cy="878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3"/>
          <a:stretch/>
        </p:blipFill>
        <p:spPr>
          <a:xfrm>
            <a:off x="1752480" y="4648320"/>
            <a:ext cx="10288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494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Supporting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051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POSITION STATEMENTS SUPPORTING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Association for Education of Young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ational Elementary School Principal</a:t>
            </a:r>
            <a:r>
              <a:rPr b="0" lang="ja-JP" sz="2400" spc="-1" strike="noStrike">
                <a:solidFill>
                  <a:srgbClr val="000000"/>
                </a:solidFill>
                <a:latin typeface="Marker Fel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merican Association for A Child</a:t>
            </a:r>
            <a:r>
              <a:rPr b="0" lang="ja-JP" sz="2400" spc="-1" strike="noStrike">
                <a:solidFill>
                  <a:srgbClr val="000000"/>
                </a:solidFill>
                <a:latin typeface="Marker Fel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 Right to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1330560" cy="358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naesp logo.jpg"/>
          <p:cNvPicPr/>
          <p:nvPr/>
        </p:nvPicPr>
        <p:blipFill>
          <a:blip r:embed="rId2"/>
          <a:stretch/>
        </p:blipFill>
        <p:spPr>
          <a:xfrm>
            <a:off x="3429000" y="4267080"/>
            <a:ext cx="1411200" cy="762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IPA logo.jpg"/>
          <p:cNvPicPr/>
          <p:nvPr/>
        </p:nvPicPr>
        <p:blipFill>
          <a:blip r:embed="rId3"/>
          <a:stretch/>
        </p:blipFill>
        <p:spPr>
          <a:xfrm>
            <a:off x="3429000" y="5562720"/>
            <a:ext cx="1523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How You Can Help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alk to PTA Board Members &amp;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rite letter to school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rite letter to local newspaper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ttend upcoming events on Right to 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alk to your neighbors &amp;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Organizations and Tools 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Rescuing Recess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Sign up to support our local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rker Felt"/>
              </a:rPr>
              <a:t>Peaceful Playgr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arker Fel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www.peacefulplayground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71800" y="3805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Take a Poll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aise your hand if you had re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hen you were in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Have children chang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re they healthier toda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re they more a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hould we eliminate re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National Statistics</a:t>
            </a:r>
            <a:br>
              <a:rPr sz="4400"/>
            </a:b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 on Reces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Approximately 50% of children are g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No Child Left Behind (emphasis on academ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Liability  Increasing (Not suppor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legal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Chart 6" descr=""/>
          <p:cNvPicPr/>
          <p:nvPr/>
        </p:nvPicPr>
        <p:blipFill>
          <a:blip r:embed="rId1"/>
          <a:stretch/>
        </p:blipFill>
        <p:spPr>
          <a:xfrm>
            <a:off x="4114800" y="4038480"/>
            <a:ext cx="3505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Recess…Is Important </a:t>
            </a:r>
            <a:br>
              <a:rPr sz="4400"/>
            </a:br>
            <a:r>
              <a:rPr b="1" i="1" lang="en-US" sz="4400" spc="-1" strike="noStrike">
                <a:solidFill>
                  <a:srgbClr val="1c3264"/>
                </a:solidFill>
                <a:latin typeface="Marker Felt"/>
              </a:rPr>
              <a:t>for our Kids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99 percent of PTA parents and teachers say that recess is important for elementary schoo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Chart 6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64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3264"/>
                </a:solidFill>
                <a:latin typeface="Marker Felt"/>
                <a:ea typeface="Marker Felt"/>
              </a:rPr>
              <a:t>Is Recess Important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371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ree-fourths disagree that all schoo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should be spent on acade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90 percent disagree that recess is a waste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Three out of four agree that recess should be mandator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Your Child</a:t>
            </a:r>
            <a:r>
              <a:rPr b="0" i="1" lang="ja-JP" sz="4400" spc="-1" strike="noStrike">
                <a:solidFill>
                  <a:srgbClr val="1c3264"/>
                </a:solidFill>
                <a:latin typeface="Marker Felt"/>
              </a:rPr>
              <a:t>’</a:t>
            </a: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s School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517760" y="16002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Recess at lunch time Eat 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(time to play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Morning re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Afternoon re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6" descr="iStock_soccergirlXSmall.jpg"/>
          <p:cNvPicPr/>
          <p:nvPr/>
        </p:nvPicPr>
        <p:blipFill>
          <a:blip r:embed="rId1"/>
          <a:stretch/>
        </p:blipFill>
        <p:spPr>
          <a:xfrm>
            <a:off x="5029200" y="2209680"/>
            <a:ext cx="2620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Greatest Risk for</a:t>
            </a:r>
            <a:br>
              <a:rPr sz="4400"/>
            </a:b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 Recess Elimination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2880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Minority sch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563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Research Findings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ker Fe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More attentive after re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Pellegrini &amp; Davis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ker Fel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5" descr="iStockMathSheetXSmall.jpg"/>
          <p:cNvPicPr/>
          <p:nvPr/>
        </p:nvPicPr>
        <p:blipFill>
          <a:blip r:embed="rId1"/>
          <a:stretch/>
        </p:blipFill>
        <p:spPr>
          <a:xfrm>
            <a:off x="2514600" y="3886200"/>
            <a:ext cx="376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52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c3264"/>
                </a:solidFill>
                <a:latin typeface="Marker Felt"/>
              </a:rPr>
              <a:t>Do Kids Need Recess?</a:t>
            </a:r>
            <a:endParaRPr b="0" i="1" lang="en-US" sz="4400" spc="-1" strike="noStrike">
              <a:solidFill>
                <a:srgbClr val="1c3264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5998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Research Finding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Being good at games on the play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was important to general social 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(Pellegrini 198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c3264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rock,.paper,scissors.jpg"/>
          <p:cNvPicPr/>
          <p:nvPr/>
        </p:nvPicPr>
        <p:blipFill>
          <a:blip r:embed="rId1"/>
          <a:stretch/>
        </p:blipFill>
        <p:spPr>
          <a:xfrm>
            <a:off x="2895480" y="38862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3:10:33Z</dcterms:created>
  <dc:creator>Melinda Bossenmeyer</dc:creator>
  <dc:description/>
  <dc:language>en-US</dc:language>
  <cp:lastModifiedBy>Klein Heather 902177 12900000</cp:lastModifiedBy>
  <dcterms:modified xsi:type="dcterms:W3CDTF">2012-08-09T21:03:41Z</dcterms:modified>
  <cp:revision>12</cp:revision>
  <dc:subject/>
  <dc:title>Right to Recess</dc:title>
</cp:coreProperties>
</file>